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8F56-9EF8-44A9-B2C6-B3B5F362E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D869-4D8A-4E61-BF62-DC5F5FC53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F556-5682-4305-AC5B-904D3E956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2577-A612-4BB5-AA39-CE8318F55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D6979-155C-443D-9FDC-F4D7F537E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5B05E-60C1-4603-A568-54E2463EF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977B6-2463-4F7F-84F8-3FD80CAA5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5A1FD-7BC2-4C6C-AB4C-9DD310052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1E616-EF55-4AFE-AA51-D37DCDCA4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96EA5-F444-438C-AD40-A2CFA71D5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ABA4F-2C66-4D9B-86DF-EC18678B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BC9A-BDAC-46A5-8E45-45CDA4016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7B76D-A912-4B91-8D3D-F46C107D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3C250-D864-4FC7-9157-46693F33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DF95F-08EC-4623-84D6-FC910EF85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AFF2D-3E11-4487-BD08-A0B85A01F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95707-AFC4-4195-91DE-3DD1FD50C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154E-0DCC-4DB6-A2BD-58290EE3B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4864-E511-4AB1-838B-DD4777ABF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4FC1-4EA2-4134-8820-2AF26D7B9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C533-7F85-450C-8E63-B58EA1663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6F1F-6E54-469D-B09E-3957FF5C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18FE-185D-4756-B853-0502D779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C099-C0DB-48E1-94AC-0D31FC26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96A6A-D056-4D40-ADB9-A9E0ADA9AD2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CF97D-792B-4C4A-B2EC-365845F3669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39640" y="189000"/>
            <a:ext cx="8077320" cy="63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Romance  del rey moro que perdió Alhama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(romance fronterizo c. 1482. Es la última guerra de Granad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aseábase el rey mo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or la ciudad de Granad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esde la puerta de Elv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hasta la de Vivarrambla.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artas le fueron venid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ómo Alhama era gan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es-MX" sz="2400" spc="-1" strike="noStrike">
                <a:solidFill>
                  <a:srgbClr val="000000"/>
                </a:solidFill>
                <a:latin typeface="Times New Roman"/>
              </a:rPr>
              <a:t>¡Ay de mi Alhama!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Las cartas echó en el fueg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y al mensajero matar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chó mano a sus cabel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y las sus barbas mesab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619280" y="0"/>
            <a:ext cx="4824360" cy="727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apeóse de la m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y en un caballo cabalg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por el Zacaín arri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subido había a la Alhambr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ndó tocar sus trompeta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sus añafiles de plat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porque lo oyesen los mo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que andaban por el ar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es-MX" sz="2000" spc="-1" strike="noStrike">
                <a:solidFill>
                  <a:srgbClr val="000000"/>
                </a:solidFill>
                <a:latin typeface="Times New Roman"/>
              </a:rPr>
              <a:t>¡Ay de mi Alham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uatro a cuatro, cinco a cinc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juntado se ha gran compañ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lí habló un viejo alfaquí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la barba bellida y can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-¿Para qué nos llamas, re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 qué fue nuestra llamad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908000" y="620640"/>
            <a:ext cx="5040360" cy="68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-Para que sepáis, amigo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la gran pérdida de Alha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es-MX" sz="2400" spc="-1" strike="noStrike">
                <a:solidFill>
                  <a:srgbClr val="000000"/>
                </a:solidFill>
                <a:latin typeface="Times New Roman"/>
              </a:rPr>
              <a:t>¡Ay de mi Alham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-¡Bien se te emplea, buen re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buen rey, bien se te emplear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ataste los Bencerraj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que eran la flor de Granad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giste los Tornadiz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e Córdoba la nombr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or eso mereces, re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una pena muy doblad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que te pierdas tú y el re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y que se acabe Gran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es-MX" sz="2400" spc="-1" strike="noStrike">
                <a:solidFill>
                  <a:srgbClr val="000000"/>
                </a:solidFill>
                <a:latin typeface="Times New Roman"/>
              </a:rPr>
              <a:t>¡Ay de mi Alhama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8T22:44:43Z</dcterms:created>
  <dc:creator> </dc:creator>
  <dc:description/>
  <dc:language>en-US</dc:language>
  <cp:lastModifiedBy>-</cp:lastModifiedBy>
  <dcterms:modified xsi:type="dcterms:W3CDTF">2008-10-06T23:34:48Z</dcterms:modified>
  <cp:revision>8</cp:revision>
  <dc:subject/>
  <dc:title>Diapositiva 1</dc:title>
</cp:coreProperties>
</file>